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2.jpeg" ContentType="image/jpeg"/>
  <Override PartName="/ppt/media/image7.wmf" ContentType="image/x-wmf"/>
  <Override PartName="/ppt/media/image8.wmf" ContentType="image/x-wmf"/>
  <Override PartName="/ppt/media/image9.png" ContentType="image/png"/>
  <Override PartName="/ppt/media/image11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3B76-0CD3-4AE2-8387-F2897371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E7E-EA03-4848-9309-A98012B4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7270-D73A-4919-82B9-5AE6CF3B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90EF-70A5-450B-96B0-3FFDEDD6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E702-A738-4EEA-B005-3EBA9B6A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418D-5003-47F7-A36D-19F2F7A4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7DE9-C9EA-49F5-98D3-5DB1E26B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CC70-EC78-46C3-926B-28ED4D20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5F77-50EA-47F0-9967-4920AD9F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A383-9E9D-442F-B44A-F2B4B2E2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9386-FA7A-45D3-B83E-6AB0AA5F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DCBB-8575-496B-B64D-282B08DE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7320-19A2-4C9E-8D9E-03D3B247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D52B-5AB0-4B0C-941C-FAE4AD4B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8F4A-6EAE-4F15-9F69-95389CFE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1E89-4893-4F40-8667-5CE68619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36F1-D720-4C90-ACB8-D58D77BD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57D1-EE54-4BA2-9FF5-AAF59153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477A-892E-466F-9440-8B7E2B26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711-FE1C-484D-AA4B-0D97D4B4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A62-60AB-4C20-A740-34B97A1B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782-D10D-4599-A012-030AC6F9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6571-6E01-430B-962D-6214B3FE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BA3-631B-4C64-B632-AA20DBE3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F69E-3C7F-470A-8242-2F76EEC60EF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C7D8-4671-41A5-A110-E903BC830D2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2/GuptaEmpire300-550.pn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poster.4teachers.org/imgFilePoster/209342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handraguptaIIOnHorse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en.wikipedia.org/wiki/File:Queen_Kumaradevi_and_King_Chandragupta_I_on_a_coin_of_their_son_Samudragupta_350_380_CE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GUPTA EMPI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8" name="" descr="File:GuptaEmpire300-550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905120"/>
            <a:ext cx="3844800" cy="3962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The Gupta Empi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1905120"/>
            <a:ext cx="34261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xplain why the Gupta Empire is known as a “golden age” 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ing its peaceful time period, 320 to 467, India was very prosperous and had many achievements and developme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72200" y="2057400"/>
            <a:ext cx="2773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ported Goods from Ind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G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Pear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Perfu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Pe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Gin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Cinna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. Other Sp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. Cotton clo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. Red dy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. Timber (woo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2361960" cy="1568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89584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orted Goods to Ind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me:  G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na:  Si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abia:  Hor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Asia:  Hor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19920" y="1828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666880" y="4648320"/>
            <a:ext cx="35053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at is a guild and give examples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uild is groups of craftspeople and merchants who did the same type of wor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 of guilds are:  weavers, potters, carpenters, carvers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7920" y="4572000"/>
            <a:ext cx="1820880" cy="1581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62720" y="449568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Role of the Guilds and their Importanc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uilds looked after their members, set prices and wages, and made sure quality work was done/performed.  By doing this they lived in the same section of town and made sure they and their product/service were goo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562720" y="4648320"/>
            <a:ext cx="2106360" cy="2003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09680" y="5257800"/>
            <a:ext cx="18147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chievements of the Gupta Empi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Literature – great works about the Hindu reli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Astronomy – knew the earth was a sphere and that it rotated around the sun, knew the length of a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Mathematics – gave us the zero and the decim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Metalwork – very pure i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Universities – built many colle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Roads – were built for travel and trade, were safe, comfortable, and well marked with sig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scription of the Gupta Empi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705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ed from 320 to 4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aceful and hap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sperous with lots of t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y creative with many advancements          and quality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hospitals, roads, univers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tle cr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guilds living in their own section of t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s decline was caused by invaders from Central Asia, called the White Hu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1447920"/>
            <a:ext cx="1676520" cy="1752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4343400"/>
            <a:ext cx="178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2:38:53Z</dcterms:created>
  <dc:creator>tcneff</dc:creator>
  <dc:description/>
  <dc:language>en-US</dc:language>
  <cp:lastModifiedBy>gehadde</cp:lastModifiedBy>
  <dcterms:modified xsi:type="dcterms:W3CDTF">2012-02-10T15:59:46Z</dcterms:modified>
  <cp:revision>14</cp:revision>
  <dc:subject/>
  <dc:title>Warm-Up #5</dc:title>
</cp:coreProperties>
</file>